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4A6-831A-4822-B625-2C5D9294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561-9A3C-46B5-B06A-CF5A0BB8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4AE-6BE2-436C-8CFA-D9F17682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6D3-A365-4F1C-831D-80BE70BA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4987-4AD8-46F7-A6FC-87D59078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66D-CB43-4D77-963F-AC5216A6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600-7076-41E6-A2BB-323B08A4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376C-CFF3-4F0C-9C96-90F71D4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2736-DCD3-4543-9E68-D52F48E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85C-39B0-4C3F-AA31-A43E5BED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F97E-2C45-4BC3-9EE2-F3597188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A9F-9C0B-4104-BE1C-825DD935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E664-8E5D-48F0-A623-C1AF76D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C785-052F-400C-A9B3-1F72541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8321-9ACF-4FFC-A026-B963D88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BE58-C326-46D1-8132-4265ED21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CFB6-0044-4DFB-82E5-601492A2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366D-70DC-43C5-A01A-4611B2EF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C928-F953-492E-AE16-7CCDD361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4606-196C-463E-BE6E-B670E26B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8D98-0DE8-4E40-8F4F-A91B7D4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F2CE-9A9D-4C8F-B5C9-BBB4E559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4D7-2EBB-4513-B28D-F8BFA0C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DF4C-040C-4823-8368-A3AE24B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0D5C-7E15-4432-9148-1E48F63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65D6-857E-4B5A-8260-DE6C380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8CB9-8F70-4BAA-AAF3-3D63B64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6835-95E4-4522-BBE6-B7A2363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C8BD-B363-473D-973B-E161D144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2356-412F-496C-B772-6D9FF26D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537A-9F28-4DF3-BDF9-5F910C52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76BE0-7FC3-41E2-8AFA-7700EFC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36A1E-6467-4410-8077-26B40BB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A7B-4308-4317-82BC-C716EE1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9E0D-0701-4166-AF91-B4C4764D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7D3D-F901-4CE6-95A4-5AED58E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8CEA-D756-41AB-8A7D-B46EA66E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49E0-914A-4D61-ADEC-FA45707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A6F8-1919-442F-9EEB-3FFCFD6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DE11-BDAB-4DC9-B80F-2E79810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1013-4CD3-4C72-A7A2-17C5A88D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8DE4-A3B5-4B5E-95A1-A5616A40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34BE-4CEF-414F-BCDF-DB19AA7D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24F-9B06-471E-9A3D-0DC522A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B81-8491-4A68-9D2E-B1DD656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448-28E5-4817-870B-40E3896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64C-E780-4148-A116-D9FBAD9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32C-1686-478F-899F-86676EE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F042-02B0-45F2-9735-2F05EB1C62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674C8-BFA6-4A3B-B8EA-1725ECA99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59310-46D8-408C-BF7C-487BCD2B4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493E6-389C-41A2-A9DE-1B94784766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sinessweek.com/news/2012-04-02/swiss-stocks-climb-for-second-day-roche-novartis-gain" TargetMode="External"/><Relationship Id="rId3" Type="http://schemas.openxmlformats.org/officeDocument/2006/relationships/hyperlink" Target="http://www.businessweek.com/news/2012-03-15/swiss-stocks-rise-on-u-dot-s-dot-factory-reports-clariant-gains" TargetMode="External"/><Relationship Id="rId4" Type="http://schemas.openxmlformats.org/officeDocument/2006/relationships/hyperlink" Target="http://media.lonelyplanet.com/lpi/25464/25464-11/469x264.jpg" TargetMode="External"/><Relationship Id="rId5" Type="http://schemas.openxmlformats.org/officeDocument/2006/relationships/hyperlink" Target="http://solari.com/blog/wp-content/uploads/2012/01/Swiss-National-Bank-President-Philipp-Hildebrand-.jpg" TargetMode="External"/><Relationship Id="rId6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Economy on the Ris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63421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businessweek.com/news/2012-04-02/swiss-stocks-climb-for-second-day-roche-novartis-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lfred.stlouisfed.org/series?seid=CHECINSQDS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businessweek.com/news/2012-03-15/swiss-stocks-rise-on-u-dot-s-dot-factory-reports-clariant-g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media.lonelyplanet.com/lpi/25464/25464-11/469x264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solari.com/blog/wp-content/uploads/2012/01/Swiss-National-Bank-President-Philipp-Hildebrand-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alfred.stlouisfed.org/graph/alfredgraph.png?chart_type=bar&amp;s_1=1&amp;s%5B1%5D%5Bid%5D=CHECINSQDSMEI&amp;s%5B1%5D%5Bvintage_date%5D=2011-09-12&amp;s%5B1%5D%5Bcosd%5D=1980-01-01&amp;s%5B1%5D%5Bcoed%5D=2011-04-01&amp;s%5B1%5D%5Brange%5D=Custom&amp;s%5B1%5D%5Bline_color%5D=%230000FF&amp;s_2=1&amp;s%5B2%5D%5Bid%5D=CHECINSQDSMEI&amp;s%5B2%5D%5Bvintage_date%5D=2011-12-12&amp;s%5B2%5D%5Bcosd%5D=1980-01-01&amp;s%5B2%5D%5Bcoed%5D=&amp;s%5B2%5D%5Brange%5D=Custom&amp;s%5B2%5D%5Bline_color%5D=%23FF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7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US Stock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zerland stocks have been rising from US manufactur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Market Index, a measure of the largest and most actively traded companies, rose 1 percent to 6,299.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stocks extended gains after the ISM’s U.S. manufacturing index rose to 53.4 in March from 52.4 a month ear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US Stock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manufacturing output expanded for the first time in seven months in March, adding to signs the economy is stabiliz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artis AG added 1.8 percent after an experimental treatment for smoker’s cough met the main goal in three t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Stocks Ris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ss stocks climbed, extending a nine-month high, after the International Mon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tobel Holding AG, the Swiss bank that specializes in derivatives, advanced 1.5 per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29000" y="4514760"/>
            <a:ext cx="263844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Bank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zerland’s central bank maintained the Swiss currency’s ceiling at 1.20 francs per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ant increased 3.5 percent to 12.94 Swiss francs as a gauge of European chemical companies advanc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enos jumped 5 percent to 15.80 francs after the ba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Bank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maker predicted revenue of $450 million to $500 mill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National Bank also kept its benchmark interest rate at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wiss government raised its economic growth forecast for this year and said the country will not enter a rec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Swiss Stocks Graph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 shows that the stocks had declined before in recent y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means that stocks should now r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stocks intended to do in the next couple of y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Stay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De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have the stocks done in the past recent ye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Stayed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De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cks in Switzerland are intended to increase in the next couple of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cks in Switzerland have decreased in the recent past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2:31:56Z</dcterms:created>
  <dc:creator>Austin Averett</dc:creator>
  <dc:description/>
  <dc:language>en-US</dc:language>
  <cp:lastModifiedBy>Austin Averett</cp:lastModifiedBy>
  <dcterms:modified xsi:type="dcterms:W3CDTF">2012-04-09T22:08:01Z</dcterms:modified>
  <cp:revision>8</cp:revision>
  <dc:subject/>
  <dc:title/>
</cp:coreProperties>
</file>